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FADC2A-2F12-4247-B7C0-D7374E74240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C2789B-B298-457A-81A4-A9DAF1586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9BCDAD-AF93-4B48-9CA5-BB2C4C4F9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5CE07E-4C96-4701-AB12-C48F7B92BE3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C5ADE0-CCE3-48F3-9151-82C28D828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0EC69D-EA11-4F85-A0DD-729BEF761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71B43D-23FD-4314-8290-D246CF825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4C32E8-E424-4073-890D-31276A196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607083-B812-4336-B210-4F6E92011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6E75BB-FFAD-4F1B-8793-17E5BB023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A279AD-1EE4-412D-9190-3A156F465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3948EF-A940-4AF6-8841-C2A44085E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82708-A291-48A4-B8E8-630E9BD5EFF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二十章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肠梗阻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肠梗阻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相关疾病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和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排便习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肠梗阻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7" name="图片 3" descr="说明: D:\yp\肠梗阻\粘连性肠梗阻2.jpg"/>
          <p:cNvPicPr/>
          <p:nvPr/>
        </p:nvPicPr>
        <p:blipFill>
          <a:blip r:embed="rId1"/>
          <a:stretch/>
        </p:blipFill>
        <p:spPr>
          <a:xfrm>
            <a:off x="2195640" y="1413000"/>
            <a:ext cx="4897440" cy="4529160"/>
          </a:xfrm>
          <a:prstGeom prst="rect">
            <a:avLst/>
          </a:prstGeom>
          <a:ln w="0">
            <a:noFill/>
          </a:ln>
        </p:spPr>
      </p:pic>
      <p:sp>
        <p:nvSpPr>
          <p:cNvPr id="138" name="矩形 4"/>
          <p:cNvSpPr/>
          <p:nvPr/>
        </p:nvSpPr>
        <p:spPr>
          <a:xfrm>
            <a:off x="3761280" y="5940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粘连性肠梗阻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肠梗阻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基础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肠减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纠正水、电解质和酸碱失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防治感染和中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镇静、解痉、止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肠梗阻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除梗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主要适用于单纯性粘连性（特别是不完全性）肠梗阻、麻痹性或痉挛性肠梗阻、单纯性肠蛔虫堵塞、肠套叠早期等患者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适用于各种绞窄性肠梗阻、肿瘤及先天性肠道畸形引起的肠梗阻、以及非手术治疗无效的患者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 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0-1  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粘连性肠梗阻，给予禁食、胃肠减压、补液、抗炎等非手术治疗。治疗后病情未好转，发展为绞窄性肠梗阻，现拟行手术治疗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①该患者在非手术治疗期间的病情观察重点是什么？②手术前后如何护理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肠梗阻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疼痛 与肠内容物不能顺利通过肠道，肠蠕动增加，或手术治疗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（有）体液不足（的危险） 与呕吐、胃肠减压、肠腔或腹腔内大量积液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潜在并发症：腹腔感染、肠粘连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肠梗阻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禁食、胃肠减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呕吐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补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药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肠梗阻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179280" y="1072800"/>
            <a:ext cx="8785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：若出现下列表现，应考虑绞窄性肠梗阻可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腹痛发作急骤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情发展迅速，早期出现休克，抗休克治疗后改善不明显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有明显腹膜刺激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腹胀不对称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呕吐物、胃肠减压抽出液、肛门排出物为血性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经积极非手术治疗后症状体征无明显改善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腹部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线检查见孤立、突出胀大的肠袢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肠梗阻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后继续禁食、胃肠减压，通过静脉输液补充液体和营养。待肛门排气后可拔除胃管，逐渐恢复饮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和活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患者麻醉清醒后取半卧位。鼓励患者早活动，以促进肠道功能恢复，防止肠粘连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防治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遵医嘱使用抗生素以预防和控制腹腔感染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肠梗阻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避免暴饮暴食，忌饭后剧烈运动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养成良好卫生习惯，注意饮食卫生，饭前便后洗手，避免肠道寄生虫病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老年人及肠道功能不全有便秘现象者应进食易消化食物，经常按顺时针方向按摩腹部，以保持排便通畅。若无效则及时给予缓泻剂协助排便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指导患者出现腹痛、呕吐、腹胀或停止肛门排气排便等不适时及时就诊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举肠梗阻的病因和分类、辅助检查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描述肠梗阻的临床表现和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不同类型肠梗阻患者的发病原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比较单纯性肠梗阻和绞窄性肠梗阻患者的临床特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肠梗阻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肠梗阻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因和分类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按发病基本原因分为机械性、动力性和血运性肠梗阻。按肠壁有无血运障碍分为单纯性和绞窄性肠梗阻。按梗阻程度可分为完全性肠梗阻和不完全性肠梗阻。按病情缓急可分为急性肠梗阻和慢性肠梗阻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不同类型肠梗阻患者可有不同临床表现，共同表现包括腹痛、呕吐、腹胀和停止自肛门排气排便。同时，患者可有腹部和全身相应的体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治疗原则为矫正因肠梗阻所引起的全身生理紊乱和解除梗阻。其中，基础治疗主要包括胃肠减压，纠正水、电解质和酸碱失衡，防治感染和中毒，以及镇静、解痉、止痛。解除梗阻的治疗</a:t>
            </a:r>
            <a:r>
              <a:rPr b="0" lang="zh-CN" sz="2000" spc="-1" strike="noStrike">
                <a:solidFill>
                  <a:srgbClr val="046ca6"/>
                </a:solidFill>
                <a:latin typeface="华文新魏"/>
              </a:rPr>
              <a:t>包括非手术治疗和手术治疗</a:t>
            </a:r>
            <a:endParaRPr b="0" lang="en-US" sz="2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肠梗阻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前和非手术治疗期间应禁食、胃肠减压，做好体位、呕吐、补液和用药护理，同时严密观察病情，及早发现绞窄性肠梗阻征象；术后注意饮食、体位和活动护理，防治感染。另外，应教会患者和健康人群积极预防和及时发现肠梗阻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肠梗阻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任何原因引起的肠内容物不能顺利通过肠道即为肠梗阻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intestinal obstruction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肠梗阻的分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根据肠梗阻发生的基本原因可将其分为三类，其中机械性肠梗阻最常见，动力性肠梗阻（包括麻痹性和痉挛性肠梗阻）和血运性肠梗阻较少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按肠壁有无血运障碍，可分为单纯性肠梗阻和绞窄性肠梗阻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按梗阻程度可分为完全性肠梗阻和不完全性肠梗阻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按病情缓急可分为急性肠梗阻和慢性肠梗阻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 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0-1 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107640" y="1371240"/>
            <a:ext cx="9001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女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阵发性全腹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天，以右下腹处疼痛最明显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天来疼痛加重并呕吐数次，呕吐后未再进食，也未排气排便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前曾因急性阑尾炎行阑尾切除术，术后曾有切口感染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后多次出现腹痛发作，情况与本次相似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 37.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 10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P 100/60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皮肤弹性较差，腹部稍胀，未见肠型和蠕动波，未触及包块，叩诊鼓音，肠鸣音亢进，可闻及气过水声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：肠腔中可见多个气液平面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该患者护理评估内容有哪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?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肠梗阻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呕吐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停止排气排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肠梗阻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2600" y="1125000"/>
            <a:ext cx="9096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望诊：机械性肠梗阻常可见肠型和蠕动波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触诊：单纯性肠梗阻时因肠管膨胀，可有轻度压痛。绞窄性肠梗阻时可有固定压痛和腹膜刺激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叩诊：绞窄性肠梗阻时因腹腔有渗液，移动性浊音可为阳性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听诊：机械性肠梗阻时肠鸣音亢进，可闻及气过水声或金属音。麻痹性肠梗阻时肠鸣音减弱或消失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肠梗阻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全身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全身状况多无明显改变。梗阻晚期或绞窄性肠梗阻患者可有唇干舌燥、皮肤弹性消失，尿少或无尿等缺水征。也可有脉搏细速、血压下降、面色苍白、四肢发冷等中毒和休克征象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肠梗阻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04920" y="13600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立位或侧卧位平片可见多个液平面和胀气肠袢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乙状结肠扭转患者腹部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线检查可见马蹄状巨大的双腔充气肠袢，立位可见两个液平面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肠套叠患者空气或钡剂灌肠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线检查可见空气或钡剂在结肠受阻，受阻端钡影呈“杯口状”甚至“弹簧状”阴影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肠梗阻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8" name="图片 1" descr="说明: D:\yp\肠梗阻\乙状结肠扭转.gif"/>
          <p:cNvPicPr/>
          <p:nvPr/>
        </p:nvPicPr>
        <p:blipFill>
          <a:blip r:embed="rId1"/>
          <a:stretch/>
        </p:blipFill>
        <p:spPr>
          <a:xfrm>
            <a:off x="760320" y="1501920"/>
            <a:ext cx="3019680" cy="4230720"/>
          </a:xfrm>
          <a:prstGeom prst="rect">
            <a:avLst/>
          </a:prstGeom>
          <a:ln w="0">
            <a:noFill/>
          </a:ln>
        </p:spPr>
      </p:pic>
      <p:pic>
        <p:nvPicPr>
          <p:cNvPr id="129" name="图片 2" descr="说明: D:\yp\肠梗阻\回盲肠套叠.gif.jpg"/>
          <p:cNvPicPr/>
          <p:nvPr/>
        </p:nvPicPr>
        <p:blipFill>
          <a:blip r:embed="rId2"/>
          <a:stretch/>
        </p:blipFill>
        <p:spPr>
          <a:xfrm>
            <a:off x="4732200" y="1717560"/>
            <a:ext cx="3656160" cy="3583080"/>
          </a:xfrm>
          <a:prstGeom prst="rect">
            <a:avLst/>
          </a:prstGeom>
          <a:ln w="0">
            <a:noFill/>
          </a:ln>
        </p:spPr>
      </p:pic>
      <p:sp>
        <p:nvSpPr>
          <p:cNvPr id="130" name="矩形 4"/>
          <p:cNvSpPr/>
          <p:nvPr/>
        </p:nvSpPr>
        <p:spPr>
          <a:xfrm>
            <a:off x="6294960" y="5465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回盲部肠套叠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矩形 5"/>
          <p:cNvSpPr/>
          <p:nvPr/>
        </p:nvSpPr>
        <p:spPr>
          <a:xfrm>
            <a:off x="1974600" y="5484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乙状结肠扭转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04:42:16Z</dcterms:modified>
  <cp:revision>111</cp:revision>
  <dc:subject/>
  <dc:title>内科护理学</dc:title>
</cp:coreProperties>
</file>